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2617-C821-4934-B303-5356A9D3E04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0639-E94E-4C04-935A-2D88E291078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C586-4538-4245-8D63-21A5DE4888C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4CCC-22A1-4EE0-987C-71C54A229B8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5BAD-121D-4BDB-B277-E1B20968D39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D2FB-6CF0-476E-8D04-A03AFB746AF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873BC-82D5-4A5B-A37A-6076682C7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9512D-D5E6-4147-8FA4-CCC9D8CF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A1CA1-85E2-45A8-9C23-F68E94E2F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FF5E0-43BF-4C28-9CAC-F90BF9B93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48F14-DE98-4C09-9019-5FDDAB569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ACE5C-A28F-4AC0-8FDD-B2A1BFCCD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6F383-E2E6-43FE-B43F-511ADEDF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5591F-1812-4BBD-B7A9-55A1596A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B372D-42AA-479E-839C-B9D235A7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E1BB-CF8D-4488-BCAF-E95BAE617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60C1-9B02-407A-8D47-52898867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B89B-CC28-4898-A529-9F9E10031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3075-F28D-47C1-AC3E-74FCA6F480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Jorge</cp:lastModifiedBy>
  <dcterms:modified xsi:type="dcterms:W3CDTF">2014-05-31T13:29:40Z</dcterms:modified>
  <cp:revision>18</cp:revision>
  <dc:subject/>
  <dc:title>Editable Newspapers Template</dc:title>
</cp:coreProperties>
</file>